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ccountable Talk Sourceboo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Read pages 16-26 of the Accountable Talk Sourcebook- Organizing for the Accountable Talk Community- Stable Routines and Talk Formats.  Stop at Teacher Moves at the bottom of page 26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ile you are reading, think about your own classroom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ow can you develop constructive student discourse in your classroom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teacher moves will you focus on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CC1D-E947-4A87-995B-6DCB7751D9A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6511-A64A-44EF-B42F-599CF3F114A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AD05-3DD3-47B7-A5F0-C4462F23D1D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ABAA-56F2-4570-AFA1-7ABA25512D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6A16-40C5-4956-8800-640B19F796E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C215-67CB-4887-B89D-35AF87E66D8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0E64-0D61-49E1-B75B-ADE6A0F60F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1447-5416-46FA-B675-1119C5C9754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A0D3-D2E7-450C-97A7-5EFFED5B558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9BED-5497-41E1-BBA6-DE8723AEBD7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1907-DF21-4BD8-91D7-CD64F098487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F57B-0C85-471D-83AD-F38189D2106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"/>
          </p:nvPr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75F1-159D-48ED-A8AB-7EB655848731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" descr=""/>
          <p:cNvPicPr/>
          <p:nvPr/>
        </p:nvPicPr>
        <p:blipFill>
          <a:blip r:embed="rId1"/>
          <a:stretch/>
        </p:blipFill>
        <p:spPr>
          <a:xfrm>
            <a:off x="1138320" y="852480"/>
            <a:ext cx="10715400" cy="805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on Burgess</cp:lastModifiedBy>
  <dcterms:modified xsi:type="dcterms:W3CDTF">2011-09-24T19:53:16Z</dcterms:modified>
  <cp:revision>2</cp:revision>
  <dc:subject/>
  <dc:title>PowerPoint Presentation</dc:title>
</cp:coreProperties>
</file>